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966-F602-4E76-8835-319A28CF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D28-39DF-4E75-A851-8C57E452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855-3318-4C1D-8829-958CF3AC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5D8F-21DC-4C7D-85AC-9081FC91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1CC-2ED3-4468-8143-87495C03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12D-2D2D-45E6-8363-0E7486D8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53E-E29C-4D5A-8430-0B2EA617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D3F-489F-44CC-AD3D-8AC5FED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00FF-1603-46CC-AE1C-530AA918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17E-5527-4896-A67A-AEC1A214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131-57A2-4405-A15C-7925897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78C-CE1A-421C-BFFB-1D6BB35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EE17-D038-4A78-B8A8-6DDC0D24C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5029200"/>
            <a:ext cx="914400" cy="9144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4343400"/>
            <a:ext cx="457200" cy="4572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4400" y="3886200"/>
            <a:ext cx="30492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781680" y="4876920"/>
            <a:ext cx="2133720" cy="2209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3886200"/>
            <a:ext cx="1143000" cy="11430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848720" y="2971800"/>
            <a:ext cx="685800" cy="6858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2057400"/>
            <a:ext cx="30456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943600" y="4876920"/>
            <a:ext cx="762120" cy="76176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410080" y="4419720"/>
            <a:ext cx="381240" cy="38088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562720" y="3886200"/>
            <a:ext cx="228600" cy="2286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04920" y="-533520"/>
            <a:ext cx="1600200" cy="1600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971800" y="533520"/>
            <a:ext cx="1066680" cy="1066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6095880" y="152280"/>
            <a:ext cx="457200" cy="457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. Et leurs Inventeur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ru Pascad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e 7-èm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807732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Des Inventions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Révolutionnair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6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éléphone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scientifiques ont contribué à l'invention du téléphone. Le plus important a été Alexander Graham Bell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exander Graham Bell a inventé le premier téléphone pratique vers 1876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est bien connu pour les mots célèbres &lt;&lt; Watson, vien ici! Je veux te voir! &gt;&gt; , qu’il a dit pour tester son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84320"/>
            <a:ext cx="1825920" cy="156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122400"/>
            <a:ext cx="21877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Ampoul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’Ampoule a été inventé en 1879 par Thomas Alva Edison, qui a été un inventeur américain et homme d'affaires important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ison a inventé aussi la phonographe, la duplex télégraphe système et plusieurs d’autr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tebulb"/>
          <p:cNvSpPr/>
          <p:nvPr/>
        </p:nvSpPr>
        <p:spPr>
          <a:xfrm rot="772200">
            <a:off x="914400" y="380520"/>
            <a:ext cx="1233360" cy="17766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9492200">
            <a:off x="6172200" y="472392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Ordinateur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y a eu plusieurs étapes dans l'évolution de l'ordinateur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 ordinateur programmable a été inventé en 1936 par Konrad Zuse en Allemagn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 premier ordinateur programmable électrique (Colossus) a été inventé par Tommy Flowers vers 1943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 ordinateur avec des programs stocké (EDSAC) a été inventé vers 1949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61200" y="4648320"/>
            <a:ext cx="1944720" cy="1985760"/>
          </a:xfrm>
          <a:prstGeom prst="rect">
            <a:avLst/>
          </a:prstGeom>
          <a:ln w="0">
            <a:noFill/>
          </a:ln>
        </p:spPr>
      </p:pic>
      <p:sp>
        <p:nvSpPr>
          <p:cNvPr id="70" name="laptop"/>
          <p:cNvSpPr/>
          <p:nvPr/>
        </p:nvSpPr>
        <p:spPr>
          <a:xfrm>
            <a:off x="685800" y="4952880"/>
            <a:ext cx="2133720" cy="1667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V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télévision est apparu dans Europe vers 1930 et dans Amerique après la Seconde Guerre mondial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s inventeurs du TV et de la télévision ne sont pas connus.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lusieurs de personnes ont assisté à leur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1586160" cy="164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122400"/>
            <a:ext cx="19144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personnes ont contribué à l’invention de la voiture:</a:t>
            </a: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769, Nicolas-Joseph Cugnot a construit le premier véhicule routier avec de propulsion automatique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32, Robert Anderson a inventé la première chariot électriqu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85, Karl Friedrich Benz a inventé la première voiture vraie, qui fonctionnait à l'essenc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3124080" cy="192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2819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53:34Z</dcterms:created>
  <dc:creator>User</dc:creator>
  <dc:description/>
  <dc:language>en-US</dc:language>
  <cp:lastModifiedBy>User</cp:lastModifiedBy>
  <dcterms:modified xsi:type="dcterms:W3CDTF">2012-05-07T17:13:03Z</dcterms:modified>
  <cp:revision>12</cp:revision>
  <dc:subject/>
  <dc:title>Slide 1</dc:title>
</cp:coreProperties>
</file>